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AEE-627F-407E-8BE2-0D2EAEDC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643-42CC-4749-AC02-E3EE2A13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8E3-EB6F-4633-9A2A-60DB95E3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F4D-F11F-441C-B0B2-C86387C1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D758-F4B8-4263-8EF6-39222716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03F5-707B-44EB-8DCA-2B838DEB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BCB3-DDB9-47C7-A752-AAB9A518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DC24-E012-427B-A203-BE99035C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C1A5-4D01-4E3B-B1A8-4078A0B3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494C-72D0-42EE-B504-431605F1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CDC1-BE20-4C1E-A1F2-37651C0E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5DF-E86B-407A-AECB-C38674C3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0AE8-DB9B-4AB2-85C5-3884261C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5575-17E5-4689-97D7-710246CB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F2C9-4B1B-4BF3-9650-D6C6B72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6B7E-F238-4716-B6BB-90111209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873B-2C62-4A86-9A6E-0FBE40A1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DDA-15A6-4665-BA31-D6A520DE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5DB-E3A8-435C-A154-A5BD9FE4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799-D7D6-4D2F-9D9A-576F20D6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4EE-FACF-4468-9CDA-B9364073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0BE-D690-4435-B089-81586D77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8D1-CA22-4BFF-A3DB-621744E7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7D9-332D-4CD0-B1E5-2BECD09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9273-99D5-4A8D-8F46-04916850B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5E2C-41F5-4E71-956F-649851572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3240" y="1752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92320" y="175248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appar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9640" y="17524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am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8280" y="175248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ar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64520" y="3168720"/>
            <a:ext cx="43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mother is 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08000" y="316872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 mère est bel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914120" y="3168720"/>
            <a:ext cx="47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kitchen (en françai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10160" y="316872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re cuis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06200" y="3168720"/>
            <a:ext cx="30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bedroo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16640" y="3168720"/>
            <a:ext cx="49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urs chambres à couc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16640" y="316872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autiful living ro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14120" y="3168720"/>
            <a:ext cx="43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 beau salon; (O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 belle salle de séjo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45720" y="31687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ld tre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04760" y="316872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 vieil arb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983600" y="3168720"/>
            <a:ext cx="38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moth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n frança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17360" y="3168720"/>
            <a:ext cx="52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w house is beautiful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918440" y="316872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 vieille maison est bell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894680" y="31687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apartment (to a frien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1080" y="316872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n appar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955880" y="316872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apart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65240" y="3168720"/>
            <a:ext cx="32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n appar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7"/>
          <p:cNvSpPr/>
          <p:nvPr/>
        </p:nvSpPr>
        <p:spPr>
          <a:xfrm>
            <a:off x="2514600" y="2971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new apart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15200" y="3168720"/>
            <a:ext cx="46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n nouvel appar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907280" y="316872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apart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909440" y="3168720"/>
            <a:ext cx="36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urs appart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900080" y="316872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 mè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22400" y="316872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balcony overlooks the gar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990720" y="2743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 nouvel appartement donne sur le jard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11960" y="316872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aunt and my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913400" y="3168720"/>
            <a:ext cx="42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 tante et mon o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08360" y="316872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beautiful au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05480" y="3168720"/>
            <a:ext cx="27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 belle ta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10160" y="3168720"/>
            <a:ext cx="38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handsome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930320" y="31687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 bel o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850760" y="316872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pretty cousi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909080" y="316872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s belles cous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10880" y="3168720"/>
            <a:ext cx="39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mothe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en françai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17360" y="3168720"/>
            <a:ext cx="40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adorable neph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910160" y="3168720"/>
            <a:ext cx="40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 neveu adorabl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908000" y="3168720"/>
            <a:ext cx="35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neighbor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05120" y="316872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re quarti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967760" y="3168720"/>
            <a:ext cx="51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beautiful neighbor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967400" y="316872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re beau quarti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912680" y="3168720"/>
            <a:ext cx="44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ld subway s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917720" y="3168720"/>
            <a:ext cx="49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 vieille station de mét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906920" y="316872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old neighb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907640" y="316872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s vieux voisi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98640" y="316872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 mè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910160" y="3168720"/>
            <a:ext cx="39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new neighb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916640" y="3168720"/>
            <a:ext cx="54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urs nouveaux voisins (O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urs nouvelles vois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3480" y="243828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new apartment is on a beautiful street in an old neighborh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MacOS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37920" y="2766960"/>
            <a:ext cx="739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 nouvel appartement est su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e belle rue dans un vie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arti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13760" y="3168720"/>
            <a:ext cx="52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mother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en françai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7640" y="316872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re mè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"/>
          <p:cNvSpPr/>
          <p:nvPr/>
        </p:nvSpPr>
        <p:spPr>
          <a:xfrm>
            <a:off x="2666880" y="3581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mothe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en françai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00080" y="316872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ur mè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23:57:52Z</dcterms:created>
  <dc:creator>SCPS</dc:creator>
  <dc:description/>
  <dc:language>en-US</dc:language>
  <cp:lastModifiedBy>John Chapman</cp:lastModifiedBy>
  <dcterms:modified xsi:type="dcterms:W3CDTF">2012-01-30T01:05:21Z</dcterms:modified>
  <cp:revision>15</cp:revision>
  <dc:subject/>
  <dc:title>Jeopardy</dc:title>
</cp:coreProperties>
</file>